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6.jpeg" ContentType="image/jpeg"/>
  <Override PartName="/ppt/media/image24.wmf" ContentType="image/x-wmf"/>
  <Override PartName="/ppt/media/image22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23.jpeg" ContentType="image/jpeg"/>
  <Override PartName="/ppt/media/image2.jpeg" ContentType="image/jpeg"/>
  <Override PartName="/ppt/media/image5.jpeg" ContentType="image/jpeg"/>
  <Override PartName="/ppt/media/image11.gif" ContentType="image/gi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DA7-3048-4732-8542-E77C0162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967-A891-4DC9-9BCC-147C732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66B-62BF-493F-BBFB-DFE508D3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BFA-A7C9-49B2-AB79-43C85D7D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14D-DAFE-4940-B38E-2FD8FAA0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3A3-B5A9-4FCF-B930-DAF5F294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D7-D36F-4B56-B06E-E260A330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59C-0E02-4733-8F33-6245CD8F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2F4-F3BE-4F61-966A-39DDEAE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E8D-47A2-40D5-8BA4-6DD646A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55D-8CCC-4C81-B3B8-E5FD7C8F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67A-A7AC-420C-8F53-5B8ADB4A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97D-3B3B-4E2C-91F3-82DEB796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 in Six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43600" y="609480"/>
            <a:ext cx="32004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essure is on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at last pl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00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rew Stew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FRESHER, SMARTER, 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Berlin Sans FB Demi"/>
              </a:rPr>
              <a:t>READY FOR THE WORLD:</a:t>
            </a:r>
            <a:r>
              <a:rPr b="0" lang="en-US" sz="2000" spc="-1" strike="noStrike">
                <a:solidFill>
                  <a:srgbClr val="000000"/>
                </a:solidFill>
                <a:latin typeface="Amienn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roadway"/>
              </a:rPr>
              <a:t> MAX SHIBL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467480" y="3048120"/>
            <a:ext cx="141768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203976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819520" y="2819520"/>
            <a:ext cx="3809880" cy="33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886200" y="0"/>
            <a:ext cx="14241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lvenda Cooler"/>
              </a:rPr>
              <a:t>When in doubt </a:t>
            </a:r>
            <a:r>
              <a:rPr b="0" lang="en-US" sz="5400" spc="-1" strike="noStrike">
                <a:solidFill>
                  <a:srgbClr val="000000"/>
                </a:solidFill>
                <a:latin typeface="Velvenda Cooler"/>
              </a:rPr>
              <a:t>spike</a:t>
            </a:r>
            <a:r>
              <a:rPr b="0" lang="en-US" sz="4800" spc="-1" strike="noStrike">
                <a:solidFill>
                  <a:srgbClr val="000000"/>
                </a:solidFill>
                <a:latin typeface="Velvenda Coo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lvenda Cooler"/>
              </a:rPr>
              <a:t>the b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arah Schr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Basketball is a fast-paced s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 sports, I speak wi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6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y Rob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expresses my life’s inner emo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rlos Perk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668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81680" y="4844880"/>
            <a:ext cx="236232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Life’s wonderful when I have happ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~ Vindhya Mar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When I TRY, </a:t>
            </a:r>
            <a:r>
              <a:rPr b="0" lang="en-US" sz="4400" spc="-1" strike="noStrike">
                <a:solidFill>
                  <a:srgbClr val="ffffff"/>
                </a:solidFill>
                <a:latin typeface="Forte"/>
              </a:rPr>
              <a:t>I WILL succeed</a:t>
            </a:r>
            <a:r>
              <a:rPr b="0" lang="en-US" sz="3600" spc="-1" strike="noStrike">
                <a:solidFill>
                  <a:srgbClr val="ffffff"/>
                </a:solidFill>
                <a:latin typeface="Fort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Ravie"/>
              </a:rPr>
              <a:t>:D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562720" y="22093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Symone J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05720" y="3276720"/>
            <a:ext cx="1285920" cy="1160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60020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Broadway"/>
              </a:rPr>
              <a:t>Live life LOUD, its more fu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14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roadway"/>
              </a:rPr>
              <a:t>- Sydney Gold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nprior"/>
              </a:rPr>
              <a:t>Great Music comes from the fi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7040" y="533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h Che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upcat"/>
              </a:rPr>
              <a:t>BE Yourself, everyone else is t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8560" y="55260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rra Wilk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9528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Dogs are Very Har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5200" y="268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in W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Rules make every one else hap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43600" y="62481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Emma Brooks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low Solid Italic"/>
              </a:rPr>
              <a:t>If I die, I’ll die</a:t>
            </a:r>
            <a:r>
              <a:rPr b="0" lang="en-US" sz="6000" spc="-1" strike="noStrike">
                <a:solidFill>
                  <a:srgbClr val="cc0000"/>
                </a:solidFill>
                <a:latin typeface="Harlow Solid Italic"/>
              </a:rPr>
              <a:t> reading</a:t>
            </a:r>
            <a:r>
              <a:rPr b="0" lang="en-US" sz="6000" spc="-1" strike="noStrike">
                <a:solidFill>
                  <a:srgbClr val="ffffff"/>
                </a:solidFill>
                <a:latin typeface="Harlow Solid Italic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low Solid Italic"/>
              </a:rPr>
              <a:t>-Claire Berend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029200" y="609480"/>
            <a:ext cx="99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68b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P's</a:t>
            </a:r>
            <a:endParaRPr b="0" lang="en-US" sz="1800" spc="1" strike="noStrike">
              <a:ln w="9360">
                <a:solidFill>
                  <a:srgbClr val="968b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29400" y="3962520"/>
            <a:ext cx="1562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69696"/>
                  </a:solidFill>
                  <a:miter/>
                </a:ln>
                <a:gradFill rotWithShape="0">
                  <a:gsLst>
                    <a:gs pos="0">
                      <a:srgbClr val="e6e6e6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own's</a:t>
            </a:r>
            <a:endParaRPr b="0" lang="en-US" sz="1800" spc="1" strike="noStrike">
              <a:ln w="9360">
                <a:solidFill>
                  <a:srgbClr val="969696"/>
                </a:solidFill>
                <a:miter/>
              </a:ln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43600" y="2590920"/>
            <a:ext cx="4762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c3d91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c3d91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2743200"/>
            <a:ext cx="4038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ife Has It's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324480"/>
            <a:ext cx="24433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Amanda Laur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-435096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152280"/>
            <a:ext cx="899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Enjoy Today. It only happens o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0400" y="601992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Chloe Ba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Music from heart, heart from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4440" y="541008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iam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uice ITC"/>
              </a:rPr>
              <a:t>Life is tough, so chal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11480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uice ITC"/>
              </a:rPr>
              <a:t>-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7:24:47Z</dcterms:created>
  <dc:creator>Administrator</dc:creator>
  <dc:description/>
  <dc:language>en-US</dc:language>
  <cp:lastModifiedBy>Administrator</cp:lastModifiedBy>
  <dcterms:modified xsi:type="dcterms:W3CDTF">2010-08-23T16:05:06Z</dcterms:modified>
  <cp:revision>15</cp:revision>
  <dc:subject/>
  <dc:title>Slide 1</dc:title>
</cp:coreProperties>
</file>